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994-EB10-429E-AE2D-EC1B064E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CB9-79F2-4C99-8955-A3AB1072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32E8-CBF1-49C6-B9B7-AEDE3409A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E983-9AF7-4F90-B67C-5031DEDC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0AA0-85D0-4BF1-A8F0-E9514B4E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9BDF-ABC0-44F9-9554-CF202AC4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DA6-1DC9-4D7A-AFDD-3F7B869A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870-7DA5-407C-A0A5-CBAB9A80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65F7-3017-4EE5-ACD8-B2CCC554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DA2-C441-423C-97B1-7FAD445B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EB9-C2D5-483A-903D-1AD547B3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ED1-4FB9-4363-916E-DA3D2F1F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0BE7-B82C-4D72-9F2C-22AF942344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611280" y="-387360"/>
            <a:ext cx="820872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80"/>
                </a:solidFill>
                <a:latin typeface="Arial"/>
              </a:rPr>
              <a:t>ОСОБЕННОСТИ РАБОТЫ С СЕМЬЕЙ, ВОСПИТЫВАЮЩЕЙ РЕБЕНКА </a:t>
            </a:r>
            <a:br>
              <a:rPr sz="3200"/>
            </a:br>
            <a:r>
              <a:rPr b="1" i="1" lang="ru-RU" sz="3200" spc="-1" strike="noStrike">
                <a:solidFill>
                  <a:srgbClr val="008080"/>
                </a:solidFill>
                <a:latin typeface="Arial"/>
              </a:rPr>
              <a:t>С ОГРАНИЧЕННЫМИ ВОЗМОЖНОСТЯМИ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4932360" y="4724280"/>
            <a:ext cx="3816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.В.Аши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ый педагог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СОШ №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.Новопетров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C:\Users\Елена\Desktop\P1000573.JPG"/>
          <p:cNvPicPr/>
          <p:nvPr/>
        </p:nvPicPr>
        <p:blipFill>
          <a:blip r:embed="rId1"/>
          <a:stretch/>
        </p:blipFill>
        <p:spPr>
          <a:xfrm>
            <a:off x="755640" y="3105000"/>
            <a:ext cx="3984480" cy="298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9" descr="сеть"/>
          <p:cNvPicPr/>
          <p:nvPr/>
        </p:nvPicPr>
        <p:blipFill>
          <a:blip r:embed="rId1"/>
          <a:stretch/>
        </p:blipFill>
        <p:spPr>
          <a:xfrm>
            <a:off x="5940360" y="47628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532764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Elephant"/>
              </a:rPr>
              <a:t>Результатами успешной работы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Elephant"/>
              </a:rPr>
              <a:t>с родителями явля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4"/>
          <p:cNvSpPr/>
          <p:nvPr/>
        </p:nvSpPr>
        <p:spPr>
          <a:xfrm>
            <a:off x="3132000" y="3284640"/>
            <a:ext cx="2737080" cy="259236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f4c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5"/>
          <p:cNvSpPr/>
          <p:nvPr/>
        </p:nvSpPr>
        <p:spPr>
          <a:xfrm>
            <a:off x="324000" y="3213000"/>
            <a:ext cx="2735280" cy="259236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f5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6"/>
          <p:cNvSpPr/>
          <p:nvPr/>
        </p:nvSpPr>
        <p:spPr>
          <a:xfrm>
            <a:off x="5940360" y="3284640"/>
            <a:ext cx="2844720" cy="252072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f5c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в семь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о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611280" y="5877000"/>
            <a:ext cx="7921440" cy="698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РЕАЛИЗАЦИЯ ВОЗМОЖНОСТЕЙ РАЗВИТИЯ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"/>
          <p:cNvSpPr/>
          <p:nvPr/>
        </p:nvSpPr>
        <p:spPr>
          <a:xfrm>
            <a:off x="395280" y="549360"/>
            <a:ext cx="820908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«… Именно в семье создаются уникальные усло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для  формирования ценностных ориентаций, установ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эмоционального    отношения    к    другим   людям,  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создает основу для развития личности ребенка в цел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Е.А. Стребелева, А.В Зацеп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8000"/>
                </a:solidFill>
                <a:latin typeface="Arial"/>
              </a:rPr>
              <a:t>(Дефектология, 1, 2005, с. 4)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9" descr="C:\Users\Елена\Desktop\P1010813.JPG"/>
          <p:cNvPicPr/>
          <p:nvPr/>
        </p:nvPicPr>
        <p:blipFill>
          <a:blip r:embed="rId1"/>
          <a:stretch/>
        </p:blipFill>
        <p:spPr>
          <a:xfrm>
            <a:off x="509760" y="2421000"/>
            <a:ext cx="4706640" cy="3529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Elephant"/>
              </a:rPr>
              <a:t>Периоды, связанные со стрессом в семьях, имеющих детей с проблемами в развитии</a:t>
            </a:r>
            <a:br>
              <a:rPr sz="3200"/>
            </a:br>
            <a:r>
              <a:rPr b="0" lang="ru-RU" sz="2400" spc="-1" strike="noStrike">
                <a:solidFill>
                  <a:srgbClr val="008000"/>
                </a:solidFill>
                <a:latin typeface="Elephant"/>
              </a:rPr>
              <a:t>(по Торнбал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971640" y="1773360"/>
            <a:ext cx="252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дение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6"/>
          <p:cNvSpPr/>
          <p:nvPr/>
        </p:nvSpPr>
        <p:spPr>
          <a:xfrm>
            <a:off x="324000" y="1700280"/>
            <a:ext cx="5029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8"/>
          <p:cNvSpPr/>
          <p:nvPr/>
        </p:nvSpPr>
        <p:spPr>
          <a:xfrm>
            <a:off x="324000" y="2708280"/>
            <a:ext cx="5029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9"/>
          <p:cNvSpPr/>
          <p:nvPr/>
        </p:nvSpPr>
        <p:spPr>
          <a:xfrm>
            <a:off x="324000" y="3716280"/>
            <a:ext cx="50292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0"/>
          <p:cNvSpPr/>
          <p:nvPr/>
        </p:nvSpPr>
        <p:spPr>
          <a:xfrm>
            <a:off x="324000" y="4797360"/>
            <a:ext cx="50292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1"/>
          <p:cNvSpPr/>
          <p:nvPr/>
        </p:nvSpPr>
        <p:spPr>
          <a:xfrm>
            <a:off x="324000" y="5734080"/>
            <a:ext cx="5029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971640" y="2781360"/>
            <a:ext cx="2520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возр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971640" y="3789360"/>
            <a:ext cx="2519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овый возр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971640" y="4869000"/>
            <a:ext cx="2520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од «выпу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971640" y="5734080"/>
            <a:ext cx="2520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дитель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6"/>
          <p:cNvSpPr/>
          <p:nvPr/>
        </p:nvSpPr>
        <p:spPr>
          <a:xfrm>
            <a:off x="3708360" y="1628640"/>
            <a:ext cx="518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ение точного диагноза, эмоциона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выкание, информирование других чле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>
            <a:off x="826920" y="1916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>
            <a:off x="3492360" y="19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9"/>
          <p:cNvSpPr/>
          <p:nvPr/>
        </p:nvSpPr>
        <p:spPr>
          <a:xfrm>
            <a:off x="3708360" y="2637000"/>
            <a:ext cx="51116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бор формы обучения, устройство, пер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кции сверстников, организация внешко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0"/>
          <p:cNvSpPr/>
          <p:nvPr/>
        </p:nvSpPr>
        <p:spPr>
          <a:xfrm>
            <a:off x="3708360" y="3645000"/>
            <a:ext cx="51116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блемы с сексуальностью, переж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ляции от сверстников, планирование буду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нят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1"/>
          <p:cNvSpPr/>
          <p:nvPr/>
        </p:nvSpPr>
        <p:spPr>
          <a:xfrm>
            <a:off x="3708360" y="4653000"/>
            <a:ext cx="51116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выкание к семейной ответственности, вы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живания, переживание дефицита возмож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го социа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2"/>
          <p:cNvSpPr/>
          <p:nvPr/>
        </p:nvSpPr>
        <p:spPr>
          <a:xfrm>
            <a:off x="3708360" y="5661000"/>
            <a:ext cx="518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тройка взаимоотношений в семь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заимодействие со специалистами по мес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бывания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3"/>
          <p:cNvSpPr/>
          <p:nvPr/>
        </p:nvSpPr>
        <p:spPr>
          <a:xfrm>
            <a:off x="349236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>
            <a:off x="826920" y="2924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826920" y="393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7"/>
          <p:cNvSpPr/>
          <p:nvPr/>
        </p:nvSpPr>
        <p:spPr>
          <a:xfrm>
            <a:off x="349236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8"/>
          <p:cNvSpPr/>
          <p:nvPr/>
        </p:nvSpPr>
        <p:spPr>
          <a:xfrm>
            <a:off x="826920" y="5013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9"/>
          <p:cNvSpPr/>
          <p:nvPr/>
        </p:nvSpPr>
        <p:spPr>
          <a:xfrm>
            <a:off x="3492360" y="501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0"/>
          <p:cNvSpPr/>
          <p:nvPr/>
        </p:nvSpPr>
        <p:spPr>
          <a:xfrm>
            <a:off x="826920" y="5950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1"/>
          <p:cNvSpPr/>
          <p:nvPr/>
        </p:nvSpPr>
        <p:spPr>
          <a:xfrm>
            <a:off x="3492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2"/>
          <p:cNvSpPr/>
          <p:nvPr/>
        </p:nvSpPr>
        <p:spPr>
          <a:xfrm>
            <a:off x="539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3"/>
          <p:cNvSpPr/>
          <p:nvPr/>
        </p:nvSpPr>
        <p:spPr>
          <a:xfrm>
            <a:off x="539640" y="3141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4"/>
          <p:cNvSpPr/>
          <p:nvPr/>
        </p:nvSpPr>
        <p:spPr>
          <a:xfrm>
            <a:off x="539640" y="4149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6"/>
          <p:cNvSpPr/>
          <p:nvPr/>
        </p:nvSpPr>
        <p:spPr>
          <a:xfrm>
            <a:off x="539640" y="5229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852640"/>
            <a:ext cx="8218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Elephant"/>
              </a:rPr>
              <a:t>Реакции родителей, когда они узнают,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Elephant"/>
              </a:rPr>
              <a:t>что у них «особый» реб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755640" y="148428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3327480" y="157644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2"/>
          <p:cNvSpPr/>
          <p:nvPr/>
        </p:nvSpPr>
        <p:spPr>
          <a:xfrm flipH="1" flipV="1">
            <a:off x="3851280" y="1699920"/>
            <a:ext cx="649440" cy="115236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V="1">
            <a:off x="4500720" y="1628640"/>
            <a:ext cx="647640" cy="122400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1"/>
          <p:cNvSpPr/>
          <p:nvPr/>
        </p:nvSpPr>
        <p:spPr>
          <a:xfrm flipH="1">
            <a:off x="3995280" y="3933720"/>
            <a:ext cx="505080" cy="136836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4"/>
          <p:cNvSpPr/>
          <p:nvPr/>
        </p:nvSpPr>
        <p:spPr>
          <a:xfrm>
            <a:off x="4500720" y="3933720"/>
            <a:ext cx="647640" cy="136692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1"/>
          <p:cNvSpPr/>
          <p:nvPr/>
        </p:nvSpPr>
        <p:spPr>
          <a:xfrm>
            <a:off x="5148360" y="620640"/>
            <a:ext cx="3527280" cy="1800360"/>
          </a:xfrm>
          <a:prstGeom prst="flowChartTerminator">
            <a:avLst/>
          </a:prstGeom>
          <a:solidFill>
            <a:srgbClr val="ff99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типичная реа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врачебный диагноз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верие в существ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е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2"/>
          <p:cNvSpPr/>
          <p:nvPr/>
        </p:nvSpPr>
        <p:spPr>
          <a:xfrm>
            <a:off x="395280" y="4076640"/>
            <a:ext cx="3600360" cy="2016360"/>
          </a:xfrm>
          <a:prstGeom prst="flowChartTerminator">
            <a:avLst/>
          </a:prstGeom>
          <a:solidFill>
            <a:srgbClr val="ff99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чувство в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живания по пов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ршенных ошиб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торые по их мнени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вели к боле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3"/>
          <p:cNvSpPr/>
          <p:nvPr/>
        </p:nvSpPr>
        <p:spPr>
          <a:xfrm>
            <a:off x="5148360" y="4076640"/>
            <a:ext cx="3527280" cy="1944720"/>
          </a:xfrm>
          <a:prstGeom prst="flowChartTerminator">
            <a:avLst/>
          </a:prstGeom>
          <a:solidFill>
            <a:srgbClr val="ff99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эмоцион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адап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лючительный этап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ия боле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его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4"/>
          <p:cNvSpPr/>
          <p:nvPr/>
        </p:nvSpPr>
        <p:spPr>
          <a:xfrm>
            <a:off x="324000" y="620640"/>
            <a:ext cx="3527280" cy="1871640"/>
          </a:xfrm>
          <a:prstGeom prst="flowChartTerminator">
            <a:avLst/>
          </a:prstGeom>
          <a:solidFill>
            <a:srgbClr val="ff99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г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ает на почве ощу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помощности, безысход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разочарования, как в самом себ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и в своем ребен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Elephant"/>
              </a:rPr>
              <a:t>Специфические особенности родительского по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395280" y="1773360"/>
            <a:ext cx="820908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елание  родителей  принимать  медицинские диагнозы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егание специалистов, констатирующих реальную ситу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днозначное отношение к комплексной психолого-медико-педагогической  помощи  (перекосы в придания  значимости или медицине, или педагоги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онность родителей скрывать фак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ного  развития ребенка в общении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3" descr="j0199364"/>
          <p:cNvPicPr/>
          <p:nvPr/>
        </p:nvPicPr>
        <p:blipFill>
          <a:blip r:embed="rId1"/>
          <a:stretch/>
        </p:blipFill>
        <p:spPr>
          <a:xfrm>
            <a:off x="6443640" y="4365720"/>
            <a:ext cx="20890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Elephant"/>
              </a:rPr>
              <a:t>Семья с «особым» ребен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j0404243"/>
          <p:cNvPicPr/>
          <p:nvPr/>
        </p:nvPicPr>
        <p:blipFill>
          <a:blip r:embed="rId1"/>
          <a:stretch/>
        </p:blipFill>
        <p:spPr>
          <a:xfrm>
            <a:off x="3564000" y="1268280"/>
            <a:ext cx="1568520" cy="1816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539640" y="3212280"/>
            <a:ext cx="83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9900cc"/>
                </a:solidFill>
                <a:latin typeface="Tahoma"/>
              </a:rPr>
              <a:t>ПОНИМАЕТ ПРОБЛЕМУ                      НЕ ПОНИМАЕТ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5148360" y="2421000"/>
            <a:ext cx="1439640" cy="79200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 flipH="1">
            <a:off x="2340000" y="2421000"/>
            <a:ext cx="1224000" cy="72072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5292720" y="407520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Narrow"/>
              </a:rPr>
              <a:t>ПРИНИМАЕТ ПРОБЛЕМУ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7164360" y="3969000"/>
            <a:ext cx="144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Narrow"/>
              </a:rPr>
              <a:t>НЕ ПРИНИМ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Narrow"/>
              </a:rPr>
              <a:t>ПРОБЛЕМУ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826920" y="407520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Narrow"/>
              </a:rPr>
              <a:t>ПРИНИМ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9900cc"/>
                </a:solidFill>
                <a:latin typeface="Arial Narrow"/>
              </a:rPr>
              <a:t>ПРОБЛЕМУ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2627280" y="3969000"/>
            <a:ext cx="144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Narrow"/>
              </a:rPr>
              <a:t>НЕ ПРИНИМ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Narrow"/>
              </a:rPr>
              <a:t>ПРОБЛЕМУ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2843280" y="3573360"/>
            <a:ext cx="433440" cy="50328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2"/>
          <p:cNvSpPr/>
          <p:nvPr/>
        </p:nvSpPr>
        <p:spPr>
          <a:xfrm flipH="1">
            <a:off x="1547640" y="3573360"/>
            <a:ext cx="432000" cy="50328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3"/>
          <p:cNvSpPr/>
          <p:nvPr/>
        </p:nvSpPr>
        <p:spPr>
          <a:xfrm flipH="1">
            <a:off x="5867280" y="3573360"/>
            <a:ext cx="432000" cy="50328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4"/>
          <p:cNvSpPr/>
          <p:nvPr/>
        </p:nvSpPr>
        <p:spPr>
          <a:xfrm>
            <a:off x="7451640" y="3573360"/>
            <a:ext cx="433440" cy="50328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380520" y="5387400"/>
            <a:ext cx="1666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ИЩ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  </a:t>
            </a: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ПОМОЩЬ</a:t>
            </a:r>
            <a:r>
              <a:rPr b="1" lang="ru-RU" sz="2000" spc="-1" strike="noStrike">
                <a:solidFill>
                  <a:srgbClr val="008000"/>
                </a:solidFill>
                <a:latin typeface="Elephant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2327040" y="540324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ЗАКРЫТ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СЕМЬЯ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4222440" y="5387400"/>
            <a:ext cx="213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ИНТУИТИ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  </a:t>
            </a: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ВОСПИТАНИЕ</a:t>
            </a:r>
            <a:r>
              <a:rPr b="1" lang="ru-RU" sz="2000" spc="-1" strike="noStrike">
                <a:solidFill>
                  <a:srgbClr val="008000"/>
                </a:solidFill>
                <a:latin typeface="Elephan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6552360" y="540324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МУЛЬТИСЛО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СИТУАЦ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5724360" y="4653000"/>
            <a:ext cx="0" cy="72072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0"/>
          <p:cNvSpPr/>
          <p:nvPr/>
        </p:nvSpPr>
        <p:spPr>
          <a:xfrm>
            <a:off x="1332000" y="4581360"/>
            <a:ext cx="0" cy="79236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3348000" y="4653000"/>
            <a:ext cx="0" cy="79200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7885080" y="4653000"/>
            <a:ext cx="0" cy="79200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Elephant"/>
              </a:rPr>
              <a:t>Информация, необходимая для организации поддержки семь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став семьи, возраст, проф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ый и культурный уровни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ая семейная атмосфера, характер семейных взаимоотношений, степень эмоциональной близ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оритеты в воспитании, согласованность взрослых в требованиях к ребе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териальные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адия адаптации семьи к ситуации     рождения ребенка с пробле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товность родителей к             сотрудничеству со специ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0280530"/>
          <p:cNvPicPr/>
          <p:nvPr/>
        </p:nvPicPr>
        <p:blipFill>
          <a:blip r:embed="rId1"/>
          <a:stretch/>
        </p:blipFill>
        <p:spPr>
          <a:xfrm>
            <a:off x="6877080" y="4365720"/>
            <a:ext cx="18223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Elephant"/>
              </a:rPr>
              <a:t>Стадии адаптации семьи к ситуации рождения ребенка с проблем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68360" y="2565360"/>
            <a:ext cx="2448000" cy="35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ДИЯ Ш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рессии, отриц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, пои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иноват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семье раст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пряженнос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худш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циаль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сихологиче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132000" y="2565360"/>
            <a:ext cx="2735280" cy="35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ДИЯ СКОР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здоровому ребен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го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емья уже поним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вою значимость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тветственность 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ебенка, но чувству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еспомощ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вопросах воспита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щет сов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 специалис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156360" y="2565360"/>
            <a:ext cx="2448000" cy="35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Д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одители входя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ситуаци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чин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роить жиз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 учетом тог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то в сем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особы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еб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46836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 flipV="1">
            <a:off x="3132000" y="206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 flipV="1">
            <a:off x="6156360" y="1915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>
            <a:off x="468360" y="1628640"/>
            <a:ext cx="2663640" cy="486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 ста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3132000" y="1628640"/>
            <a:ext cx="3024360" cy="48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ста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9"/>
          <p:cNvSpPr/>
          <p:nvPr/>
        </p:nvSpPr>
        <p:spPr>
          <a:xfrm>
            <a:off x="6156360" y="1628640"/>
            <a:ext cx="2519280" cy="48600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тья ста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4"/>
          <p:cNvSpPr/>
          <p:nvPr/>
        </p:nvSpPr>
        <p:spPr>
          <a:xfrm>
            <a:off x="4356000" y="4292640"/>
            <a:ext cx="486000" cy="833400"/>
          </a:xfrm>
          <a:prstGeom prst="downArrow">
            <a:avLst>
              <a:gd name="adj1" fmla="val 50000"/>
              <a:gd name="adj2" fmla="val 428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4356000" y="2421000"/>
            <a:ext cx="486000" cy="833400"/>
          </a:xfrm>
          <a:prstGeom prst="downArrow">
            <a:avLst>
              <a:gd name="adj1" fmla="val 50000"/>
              <a:gd name="adj2" fmla="val 428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Elephant"/>
              </a:rPr>
              <a:t>Модель формирования позиции родителей «особого»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826920" y="1557360"/>
            <a:ext cx="7632720" cy="129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ЕРВЫЙ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 на привлечение ро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ррекционно-развивающе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важно убедить, что никто, кроме родителей, не поможе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755640" y="3284640"/>
            <a:ext cx="7632720" cy="1368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ТОРОЙ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 на формирование увлечения ро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ом развития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важно показать ежедневные достиже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чить отрабатывать задания специалист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684360" y="5157720"/>
            <a:ext cx="7632720" cy="1224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ТРЕТИЙ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 на развитие творческих подходов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обучению и развит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важно показать возможность родительских исследов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7:49:02Z</dcterms:created>
  <dc:creator>student</dc:creator>
  <dc:description/>
  <dc:language>en-US</dc:language>
  <cp:lastModifiedBy>Елена</cp:lastModifiedBy>
  <dcterms:modified xsi:type="dcterms:W3CDTF">2014-01-26T18:23:19Z</dcterms:modified>
  <cp:revision>25</cp:revision>
  <dc:subject/>
  <dc:title>Слайд 1</dc:title>
</cp:coreProperties>
</file>